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1879-5952-47A0-9D04-373E54DE46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6000    2/1 in 8     3/179kg     4/1.3 billion tonnes     5/ about a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A267-3426-4BAC-9908-BFF63040C2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 questions and predict the answers first, then read the article to check. Key: 1/ to raise awareness of food waste 2/in homes, cutting beans to fit boxes, throwing away fruit with marks, not packing food well, cancelling or reducing orders etc  3/ making food waste information public  4/putting pressure on supermarkets, asking questions, buying odd shaped fruit and veg, cutting food waste in homes, pledging to reduce wast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30E6-7761-4C17-9D9A-EB0D998B9A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2DC8-9026-4629-B7F0-2457DD01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AEC-E5D5-4246-B577-B0D73AB5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120-09E5-43C3-95BB-296972AF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76D-ADBF-4A32-9E7C-305704EA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B65-CFA4-4D9D-AA7A-B7DF3672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F35-797F-4623-A52E-3F9FCC6F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946-FB52-4879-AEC4-2E94843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9D0-9B1C-452A-B7B2-4CFB551C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901-ED80-4102-86D4-3FE2F82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9A6-B5B9-44A3-9005-B7417FF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48B-AA93-45EF-896F-0B2FFAF1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7AA-6938-47B6-BBDB-BCDC16C9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267-D743-4115-A83F-1DE66B4DB3E1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82520" y="1847880"/>
            <a:ext cx="9163080" cy="343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86900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INTERMEDIATE 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127320" y="18900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74600" y="260280"/>
            <a:ext cx="2870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ook through the article to check – 2 minutes only!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3203640" y="3645000"/>
            <a:ext cx="47703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4920" y="126792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1/ Why did volunteers cook and give away 600 meals in Brussel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2/ Name 4 ways in which food is often wast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3/ How are some supermarkets trying to reduce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4/ What can the public do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to help cut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ook Antiqua"/>
              </a:rPr>
              <a:t>Now read again:</a:t>
            </a:r>
            <a:r>
              <a:rPr b="0" lang="en-GB" sz="15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5724360" y="4103640"/>
            <a:ext cx="3143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139680" y="-73080"/>
            <a:ext cx="5559480" cy="286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000" y="2420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Choose one of thes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Find out about this movement and tell others: </a:t>
            </a:r>
            <a:r>
              <a:rPr b="0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Make a poster to tell people about food waste and suggest how we can reduce i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Write to your local supermarket manager to make sugges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5432400" y="333360"/>
            <a:ext cx="351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8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86336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1/ Read the original article: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http://newint.org/features/web-exclusive/2014/04/04/feeding-the-5000-brussels-food-waste/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nd note down all the new/useful words and phrases you find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2/ Choose another Easier English article about food to read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ategory:Foo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52108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108000" y="85680"/>
            <a:ext cx="2519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4-14T20:27:52Z</dcterms:modified>
  <cp:revision>11</cp:revision>
  <dc:subject/>
  <dc:title>How to stop food waste</dc:title>
</cp:coreProperties>
</file>